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7C29-5D49-4043-8D01-4A7BF350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029-CC91-40E5-8327-0913DC34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5070-917A-4B31-AEBF-73595D97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AB6-D559-4C2A-8460-FD197F6A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2CFC-91AF-48EC-9918-DCD88A3B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CF3-49DC-49A0-9B4D-53FDD43B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D8F3-452C-498C-9880-C7D51AA7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2BB-75BD-47F0-B3F0-5A8115B7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642-EA8E-4431-9F94-2464DA31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345-C9B4-437A-932F-B50C3280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86AF-DBB7-4A32-BDF8-5A89A2E3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0F21-673E-4CC5-AAE4-E23EDE2E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253E-D6AA-4DEF-A7E6-7E2AA808B1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а студентка 4 курса филологического факультета КГПИ Дуркина Юлия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>
            <a:alphaModFix amt="59000"/>
          </a:blip>
          <a:stretch/>
        </p:blipFill>
        <p:spPr>
          <a:xfrm>
            <a:off x="1523880" y="1828800"/>
            <a:ext cx="6270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Основной вопрос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32523"/>
                </a:solidFill>
                <a:latin typeface="Calibri"/>
              </a:rPr>
              <a:t>Что такое искусство?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Вопросы, которые волнуют воображение…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</a:rPr>
              <a:t>Для чего строили пирамиды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</a:rPr>
              <a:t>Каким правилам следовали  художники и скульпторы Египта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</a:rPr>
              <a:t>Зачем делали статуи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</a:rPr>
              <a:t>Какое значение имели росписи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Зачем мы это изучаем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Чтобы узнать об искусстве Древнего Египта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Чтобы расширить кругозор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Представление результатов исследова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торепортаж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клет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б-сай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зентац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чинение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Темы, которые мы изучим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Наш курс будет длитьс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две недели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Этапы проведения проект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бор и форма тем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иск информаци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стоятельная работа учащихс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щита проект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Информационные ресурсы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http://ru.wikipedia.org/wik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http://images.yandex.r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krugosvet.ru/enc/istoriya/DREVNI_EGIPET.htm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slovari.yandex.ru/dict/krugosvet/artic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countries.ru/library/ancient/egypt.ht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artprojekt.ru/Civilization/0081.htm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8:27:18Z</dcterms:created>
  <dc:creator>Юлия</dc:creator>
  <dc:description/>
  <dc:language>en-US</dc:language>
  <cp:lastModifiedBy>Юлия</cp:lastModifiedBy>
  <dcterms:modified xsi:type="dcterms:W3CDTF">2010-04-28T13:08:42Z</dcterms:modified>
  <cp:revision>8</cp:revision>
  <dc:subject/>
  <dc:title>Слайд 1</dc:title>
</cp:coreProperties>
</file>